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156-E0E9-4703-A620-91E1C6EA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BAF-E906-498F-9BB2-BC698999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14C-9852-4D8B-9326-0920A1C9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AC5-D68B-4130-9794-E684FD48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EE2-9D5C-4AB6-BB02-618FDC9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2F9-3918-49A8-A78B-82F875F5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478-F1B4-4269-94B3-108E1DB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4AD-D2C9-43AF-93D1-54167F8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5CC-E737-4FB9-918D-1CC022AA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201-8E0B-4C23-89BC-A786A199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22B-6850-4337-95A2-49D2EC7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047-5BD1-482B-AE90-9301283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C8DB-82FF-40C0-8B9E-2FAF98D6A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04680" y="3505320"/>
            <a:ext cx="56998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(aka. FOREX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54864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hange Rate = Relative Price of Curr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25162" r="0" b="0"/>
          <a:stretch/>
        </p:blipFill>
        <p:spPr>
          <a:xfrm>
            <a:off x="3276720" y="838080"/>
            <a:ext cx="2509560" cy="249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0"/>
            <a:ext cx="84582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EX Supply and Demand Simplifie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9528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00"/>
                </a:solidFill>
                <a:latin typeface="Times New Roman"/>
              </a:rPr>
              <a:t>Imagine a huge table with all the different currencies from every countr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Times New Roman"/>
              </a:rPr>
              <a:t>This is the Foreign Exchange Market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Just like at a product market, you can’t take things without paying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mand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one currency,  you must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ply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your currenc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2552760" cy="170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57200" y="47293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Ex: If Canadians what Russian Rubles. The demand for Rubles in the FOREX market will increase and the supply of Canadian Dollars will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895480"/>
            <a:ext cx="86439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OREX Shift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962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et’s use the example of the US Dollar and the British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28600"/>
            <a:ext cx="864396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1. Changes in Tast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Ex: British tourists flock to the U.S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Demand for U.S. dollars increases (shifts righ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British pounds increases (shifts righ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depreciat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appreci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2. Changes in Relative Incomes (Resulting in more imports)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Ex: US growth increase US incomes…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buys more imports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 appreci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 deprecia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600"/>
            <a:ext cx="8643960" cy="65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3. Changes in Relative Price Level (Resulting in more imports)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: US prices increase relative to Britai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cheaper imports increas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 ap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 de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4. Changes in relative Interest Rat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: US has a higher interest rate than Britai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people want to put money in US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apital Flow increase towards the 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demand for U.S. dollars increase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supply more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Pound-de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Dollar- apprec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447920"/>
            <a:ext cx="864396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merican tourists increase visits to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US government significantly decreases personal income t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flation in the Japan rises significantly faster than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Japan has a large budget deficit that increases Japanese interest 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Japan places high tariffs on all US im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US suffers a larger re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US Federal Reserve sells bonds at high interest 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372360"/>
            <a:ext cx="9024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How do these scenarios affect exports and imports?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447920"/>
            <a:ext cx="86439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and Yen appre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depreciates (Demand Falls) and Yen appreciates (Supply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appreciates (Supply Falls) and Yen depreciates (Demand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0248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99"/>
                </a:solidFill>
                <a:latin typeface="Times New Roman"/>
              </a:rPr>
              <a:t>Scenarios 1, 2, and 4 will increase US exports because US products are now relatively “cheaper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deo: Down and Out D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Exports and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US sells cars to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Mexico buys tractors from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Canada sells syrup to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Japan buys Fireworks from Mexico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839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all these transactions, there are different national currenc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country must be paid in their own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uyer (importer) must exchange  their currency for that of the sellers (exporte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181840" cy="257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urnover in FOREX markets is almost $4 trillion (USD) a d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056320"/>
            <a:ext cx="2940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rrency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 = US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 = Eu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Y = Japanese Y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P = British 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F = Swiss Fra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 = Canadian 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= Australian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ZD = New Zealand D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0626" t="21002" r="39376" b="8999"/>
          <a:stretch/>
        </p:blipFill>
        <p:spPr>
          <a:xfrm>
            <a:off x="152280" y="123840"/>
            <a:ext cx="769644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6840" y="152280"/>
            <a:ext cx="40737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Exchange Rat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864396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In the FOREX market we only look at two countries/currencies at a time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 US Dollars and British 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examine the price of one currency in terms of the other currency.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$2 = £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xchange Rate depends on which currency you are conve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price of one US Dollar in terms of Pound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 Dollar = £1/$2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£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price of one Pound in terms of Dollar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 Pound = $2/£1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$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happens if you need more dollar to buy one pound (the price for a pound increases)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 From $2=£1 to $5=£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E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De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loss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ore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ollar is said to be “Weak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happens if you need less dollar to buy one pound (the price for a pound decreases)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x: From $2=£1 to $1=£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AP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Ap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increase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ess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ollar is said to be “Strong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18000" y="3573360"/>
            <a:ext cx="0" cy="239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23960" y="3560760"/>
            <a:ext cx="2882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31600" y="0"/>
            <a:ext cx="596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</a:rPr>
              <a:t>S&amp;D for the US Dolla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48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 of US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84240" y="603108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7920" y="1370160"/>
            <a:ext cx="4221000" cy="422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38360" y="1272960"/>
            <a:ext cx="4175280" cy="43275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5029200"/>
            <a:ext cx="152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 by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73760" y="1081080"/>
            <a:ext cx="168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y by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54280" y="129240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libriu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1 = £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6680" y="6172200"/>
            <a:ext cx="317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ntity of 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362320"/>
            <a:ext cx="83808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49200" y="210276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rot="16200000">
            <a:off x="1249200" y="446544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8120" y="2828880"/>
            <a:ext cx="15454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eci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8480" y="3587760"/>
            <a:ext cx="1528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preci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00200" y="1066680"/>
            <a:ext cx="5708520" cy="4941720"/>
            <a:chOff x="1600200" y="1066680"/>
            <a:chExt cx="5708520" cy="4941720"/>
          </a:xfrm>
        </p:grpSpPr>
        <p:sp>
          <p:nvSpPr>
            <p:cNvPr id="75" name=""/>
            <p:cNvSpPr/>
            <p:nvPr/>
          </p:nvSpPr>
          <p:spPr>
            <a:xfrm>
              <a:off x="1636920" y="1066680"/>
              <a:ext cx="0" cy="494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00200" y="5981400"/>
              <a:ext cx="5708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28600" y="1219320"/>
            <a:ext cx="1371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nd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llar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6:24:35Z</dcterms:created>
  <dc:creator>Ashley</dc:creator>
  <dc:description/>
  <dc:language>en-US</dc:language>
  <cp:lastModifiedBy>jclifford</cp:lastModifiedBy>
  <dcterms:modified xsi:type="dcterms:W3CDTF">2011-03-11T22:29:58Z</dcterms:modified>
  <cp:revision>24</cp:revision>
  <dc:subject/>
  <dc:title>Balance of Payments</dc:title>
</cp:coreProperties>
</file>